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2FB-238E-49D0-B049-BF83930C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1593-47C9-4130-8FD1-809484D1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63EF7-BCF5-43C6-A250-F63A28BB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D9DFA-B0DE-40C9-BACD-C1BB7709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4E337-C639-4E3D-8F7D-E5213AF0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D7D9B-61FD-4756-A34A-2737F8A0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85172-1392-49A0-AC0F-A9F7EBE6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55FEB-ED7A-4A51-88C7-54BFBA0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200AD-0372-4B0C-956C-C4A717EE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07673-59D6-4C57-A085-98AFAFEA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D93C4-A898-4E05-A4FE-13B49DF8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D0F07-6B1A-429B-9A99-3B4C456B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4B9-5F7E-465E-AA07-7673091DD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BFF84-F138-400F-9A99-630E8D7D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8260B-C382-40AC-A5E7-3866F6C7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B124D-C4E8-46F3-B489-1531793D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F59FB-0A8A-413C-8862-9881E1BC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08A4B-7274-4BA9-9300-92669493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03607-AD01-4352-AA84-C9F16B0A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754EA-EDD8-4FDA-BC11-0EE742EA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E90F7-9315-4395-9BA1-2462CA3F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1F3CD-9509-432F-8525-5D040D7C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55503-CB61-4284-B370-0B7348AA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C17-E75C-40A7-962C-081160A7B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D0E14-2BD6-4275-97C5-7FE5EC8F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3B47D-05C9-4FB9-B49B-7121D325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2E817-C84C-48CA-B66B-63C8663F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EDDE7-885F-44CD-B4B4-EA5C4ACC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05AB1-9F1F-46CD-801D-90335C64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4189D-8FA2-45E7-B9C9-86992580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954CD-FC11-4314-A978-94C436AE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6E782-3B60-46FB-AE56-7C6982B3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D5DD6-37A5-47BE-803A-90D95E37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7CC59-FE1F-413F-9756-E5A956AE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B05B-F3D0-41A8-82E2-E37CBAD8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D30E2-665E-43A5-9134-A2B9B2FE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620F9-EA8C-43CB-BD5E-056A4190D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935D7-C92D-4A45-8D90-93A74A31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84B1C-7237-43CA-A058-544040DEB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FAD20-A1B0-4FC4-8045-B3A00A6E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67166-BF76-490B-A673-E49BAE95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8FD5E-B8AC-4801-96D2-B0B1D0BB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01836-4B90-4BC3-9C00-A48888B0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C72F0-2994-4EF8-84F0-7609CD3E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3767C-AA60-487F-9958-72B070D0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AF4A-5737-491D-ACDE-A29E13CD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4B485-8B44-47BF-BFB0-42737B1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23190-7E5C-4353-9354-574444718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9F856-255D-4C09-8A34-E9FAA71E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8720E-62EA-46BB-AB80-02F05120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E8839-4490-472E-85BB-F4F8CC98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F78F8-7C6D-494D-B18C-15ABEB11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CB19B-2704-4023-8647-29736F55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4A4FA-83C9-4D8A-9ACC-8A6323077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D2744B-B7EE-4277-B3EA-FBA829CB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B0E11-45F2-421A-9842-A5643EAC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F2C6-7DDB-4A83-976C-28E982E4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5D4F2-DAF6-42E2-8C84-90F5F2E4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6A40F-801A-43C2-97A7-5B10485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35291-DEB8-45F8-B4B4-C2FBBB8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70C9C-222B-4154-83DA-78281EA9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90465-FD47-466B-869D-0F93D4EE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AE68B1-1694-40D0-80E2-E21DABAA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1821F-9ED6-42C5-88C7-B4EB78E4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E8A3F-21AD-4C8C-9A01-A901B6D9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521DC-2A94-4F4A-8FBE-BA951897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5FD10-3D20-4F66-A079-C15DD7D3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258E-1B4F-43D4-A328-13086354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076B4-1B60-4E90-BD64-13588093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3B60D-DC2B-45D6-AB33-7E3A8F09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F21CC-6ED8-4F96-9135-F350472A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ADB72-721D-4629-8EEB-A9843836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5D262-01FC-4013-B188-50676978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34D6C-F6F2-44D6-AD2F-DAA083E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CA3B1E-8A3E-4CC2-9B60-FFACD34E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0733D-6A3B-49EC-AB48-48E9FDBE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0657D-17BE-4758-97D2-B8EDAE0A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4622F-BDB1-4264-A100-6EA4431E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1C51-1836-4187-8BD6-8962E6B2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7F3A3-2FF0-43E3-81ED-D2E4E21C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9CE46-660B-4C46-9743-3E539C84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2A4A94-D569-4A08-8E61-223CD31A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89423D-15CD-45FA-B9AF-3CB0D9B4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313DF-8920-4E79-AEBC-C16145D6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EF157-ABC6-415D-8976-8CD1D2E8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55AD7-DA84-4576-AAC1-CC06BCF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A6CDA-1945-40BE-98DE-82E7190A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2FE129-6DFE-4A9F-A476-FD528924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4B928-C7C4-47A2-B03B-2CD2D04F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B047-C7EB-4E39-8B35-93EE9678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809C9-5835-4055-8A75-584C88FC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E2CDB-74DB-4BA3-A1CB-9FB7189D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DCE857-80B0-456D-94A3-0675659D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664CD-21E7-482A-A086-F5EBC2EB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1657A-555A-400E-858B-9C820B0D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4F1B31-57A1-4316-A83A-61557E6F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CE3506-BF65-4BCF-B798-48B8F946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8A1DAE-6F36-47AF-8B9A-ED4E3A8B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747398-82A2-4D6F-800C-626F0E38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780DA-46E8-4E2B-B468-5057C008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60CB-DCE5-45A9-BEB9-E7616755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52CB1-E9C2-4CA3-BD42-004370E0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65016-9A67-4B70-BE38-A4E9680C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CAAFC-4FC9-4B11-85AA-BBCEE6714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378FB-7CEE-4DB4-8792-54ACA069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1A688-2DD3-4468-B876-21AF50ED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9653C-404C-411D-AAA0-D941B8B0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64AA71-A8CD-4057-BEAB-4582ABA8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4D2F1-25DB-427B-98F3-FE01BC4B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F5128-9482-4F60-A683-4B062320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8DCAD-798E-41A4-A170-12F29156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A51F-E4B9-4559-8683-4BA9BDC7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5781-458D-4240-8487-8CE18D8E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E6C47-3C72-4253-91D5-E4D96E7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8B3DE-15CB-4AB6-B8B8-F7C2BE93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01BB1-2B76-4138-AB94-CC002EA5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35C0B-59AD-41E0-9150-65B14F81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9B9E0-217F-4F32-A172-F9593AED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90811-DAA2-44DF-9B9F-88875AA3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502895-30BF-422E-ACEA-692E84CC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597E84-E511-40A4-B766-C1FA189C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CEE5FB-4E84-42ED-B174-A7E46CE3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5A0B03-287B-4EA1-9831-5B2480A5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9931-0E00-4B04-968C-AE86A8FA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FB2E9-6985-43CF-B4BA-118ED46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A33614-3D2F-4B0D-9C91-0A5B4DE5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646D70-BDD1-4BA5-A20B-1E1098DB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506B6A-CFA8-4544-9637-77ACA8D6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F4CA0-1695-4698-9AC9-9A126B95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8A10FE-F33F-41A4-A198-3AA24DA0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9AAA7D-1573-4622-A8DF-45FEF61C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52CA0-5DB4-4B3A-8BBD-63C928A4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4828F1-DD11-452C-A693-A2D77AF3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3C725-75E3-4D23-8734-96AD213E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40E1-C13F-495F-8024-72DDDC68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DC745-7022-40DC-B42B-A3F2E92E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B9F78-BCBB-43F8-946B-67211C3D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F68C4B-EEC0-45A7-A8A3-72621D7C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BB15BD-883B-4307-8CEB-C0E92EC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22750B-CCFF-4667-A7BC-B0517A61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1D2F6-5828-403D-A74E-090F5462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855F6C-57C4-4B85-853A-19F6C5C2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16513F-AB82-49C3-BA1E-D17D62EB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897AA-EA4D-4348-9B45-733952C0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A5DFC8-3D96-4527-BA48-3A2AED65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1BAE-9E82-4A20-BB1A-CE94AB84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DBC302-F44B-47D3-8131-DFE6D9A2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9C7BC-2178-4C39-8C8D-440F2E65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7E07D1-B18E-46D9-9C81-DAA3CFEA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0BE1D0-2712-4AC7-92B4-A9D8E48D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67F1C3-1CD1-4957-973D-E5F27223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4519A5-84A3-4A79-A27E-5856FD2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B453E-F640-4A69-82C6-6E346DB2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DE0707-84ED-4C1A-91E2-F4F9DC45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BCE772-E469-4BA2-A772-751DB576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311B4-69D9-47D0-9831-76FADCFA1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4559-C1D3-45D6-983B-5C9A789E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311A6-4F91-4AC7-B1DC-AF679D9D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0AD0E-720B-4856-8E7F-019555B2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9D97C9-237F-4BED-BA5D-9C6B223E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38B983-4B07-429B-8374-CBE60B5A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9F5075-5CAB-4975-910D-36D44246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27ECE-CCB0-49CD-8E52-CF266464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933961-E369-4ACF-B746-BE563A40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C98F6-39CD-4530-AF30-0F8E597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F3A1E-417E-4C26-B004-228461F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AD3A55-5044-4C73-BC0E-68195619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86FD-DA71-4B1E-97CC-55139D04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52285-660F-42A6-89A0-F21EF993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8567C-277E-450C-9ADA-35752385A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2F6B8-CFC4-41CA-8A6F-39DC88E4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BAAADB-633F-471F-AA69-71DD1F3E1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D0F2A2-73A3-4936-AE4A-BA0BEA3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4BAC3-0393-480C-8834-44436978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626BA9-B519-48B3-9A8B-95A03EF1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52F782-50F3-4274-86A5-A061013A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D62AD8-2B38-40ED-A036-5A783020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4E7D2E-DBDD-4303-890A-63C0744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54F9-ACC1-48D8-B609-164714F0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90231B-5D4A-4983-A994-F2C5F4E8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31D138-4CE3-4628-85EF-979F353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8A5B7F-C03C-48F6-8C4C-EF543197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F41CA1-03C0-4B18-994D-3A3B3880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84AE99-FAA7-4EB9-A41F-17267EBC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BB9764-28E2-4372-9B57-A3A7433A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79A4D-E8CB-453C-A7AA-18650E1D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FBF4C5-BCDD-428B-BA63-D544F666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0BFCBF-7CBC-413B-8623-D098A790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D7BC02-89BE-499B-85BF-722B317A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0786-39A3-468A-AD23-ADBBD653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4CBA8F-1FFE-4520-967C-4414B486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928471-50A5-4EC1-AC49-C5454E5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A5274B-A60C-4DD6-890E-4F150A2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44FF41-1178-423C-B88D-7CFFDBCB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4A8AA-5B2F-456F-AB72-C475BD42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D03D55-6979-4A06-B236-6DBC2D74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D06286-01E2-40AD-8EC2-1329EB94B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FDBD38-9461-4396-9CB4-034F01F9C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5BE481-CC24-4FC0-A94C-C07AA569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10C6B1-FC95-44CB-AEE9-80CCE53F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524C9-6E1B-4326-9D4C-4CA19DE5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C1EF9A-9300-4BF3-8CF2-343E36E3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71CC74-0EBB-4941-BA40-F0679260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0D3052-04FF-4C6B-B4FB-EB837151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98DB4B-6CAC-4BE3-BE18-53D587D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AFC4E2-9445-4F5B-8283-E91870C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D284D1-504C-4A65-8D05-CA4CB8A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0D8B20-DDC9-4F62-AE23-D9D8087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DFA8C2-B7C1-4CD1-81D2-94C4CF82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62D9D-5276-4EC0-8D5E-B99CD66A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900C27-E220-44D4-A39D-5C4B38535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AF3FE-DBD0-4872-A8B7-2D716BBD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5AD5E9-847B-48B9-89C4-8D372D51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3E2E11-FFB5-4C7A-BE66-0139863A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6A4DBC-BCD5-44B9-965E-FBAE1A6E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772E0F-73CA-4FAD-B7FB-ABD25C1D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978373-D748-44B1-88DF-0E8291ED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B6A1E9-657D-4130-972E-F744D6FD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54E8AD-AD14-488D-80F7-5A953C7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E1EC6A-62B3-4031-B93D-D88153C2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4DD281-79FF-46FE-80A4-B9C4B790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39D0BF-732B-42EC-ACE8-2FBE0C83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D49-8580-4235-9923-591A4298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88CB3-5D95-42CF-9D24-33F6963E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58B08C-3567-4124-88F9-0ED2612C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00077D-0BEF-4FA7-B2A4-FCDAA38A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70A38D-C038-40D1-8F28-770CFAEA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8C2C61-A275-41A9-9CD3-FA448E24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151E0C-081B-49B2-BBD2-F67C264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5DB6A6-26E8-4767-A4F0-B970BB83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CFCA16-5F2E-412F-9C3E-BAFC8185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DBC528-5CE5-4E2D-ABCE-D24C6DB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713F98-52E6-45E2-8333-9B33911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83121B-DBEB-4665-B85D-3E949660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53A4-69C9-4C6D-8BDF-F1EB325E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762CC1-A8FF-4F4D-AAA3-18A1279E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DB4933-45E2-402D-BE3E-0E9AEB8E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8CCE3A-3461-434C-A018-02BB03CE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EDA6B3-6629-4741-8DAD-D204E90C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17843C-6DFB-4DA2-A657-B60C7336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2D8305-A856-4C46-A797-769A875C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AE550F-45E5-4F9E-AD1E-F3C45D12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5FB776-8CDB-4922-A617-F3DBFE52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10C54D-25D9-44B0-9FB1-6F8D0194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D1B3AB-1C85-4887-9FAB-D1A378BF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D709F-B527-431F-8CD4-A5FD416D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3BDAEE-2ADB-40C0-93AE-D35590CC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77D477-565D-4CFE-A75C-00ADF0D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72E88D-A30E-4316-8231-8108B8E9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A09F63-6D04-449C-8FED-7AA12B79A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493C5E-28AF-4961-A0AB-87E7D5FE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B57BE7-B717-45E9-8A2A-B584D480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447A0F-8198-46CC-9012-43937436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DE9EFD-A8DF-4660-9832-151A049F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E9EB204-9596-4C8C-ADB9-02D436C2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0A0B51-10FC-45D6-94EE-7FC30201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7D64-B01A-4F27-B653-9681D368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574443-FD92-4838-AC48-2FCA912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3D0E94-8032-4C1A-AE5D-D7A88191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4E3F87-1004-4632-BD41-5C04EF5B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988BF4-EFE8-4F95-A724-B19A7B04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D59DE7-E7A6-4CA2-9867-03DB076F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121DD8-C3B2-4035-9DB5-026D8629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B95941-B4F4-4CF6-8757-352A35CB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3A700F-455A-4264-9ED2-61BB4F9D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76E303-047B-431C-A2AF-A4FB3390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90DBA0E-B994-4485-811B-17BD7FEC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D188-C4AE-4951-90D7-825E082A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1FBF79-4E96-4F99-AC10-FAC3900E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AA6C15-39AA-409B-890F-970DDBEC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7685D3-F766-4558-940A-54D2AA15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E7E4A3-47C9-4665-ACC7-84510E85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E5482E-163D-4E0E-9982-43230D79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A547BA-F2F7-4C52-8592-7F702AF6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1FFEFF-DB08-437C-882B-8B424616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8C7E12-64D5-4D85-ABD3-AAFFA399B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856E3D-81A4-4ABC-A121-AC0DDF16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82789B-D630-4D2D-BC33-E0592F11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CAF8A-F7B1-45AE-8314-D7222775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930EC19-D967-4150-BD52-53EE777E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D54379-B8DF-40F0-84E9-18F8C22D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CFB7D4-52B6-457D-A1F4-9ED82D3F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2824D5-462C-49B4-A8B4-42ECD3C2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5E029B-EED9-4073-814E-57C95A37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4021B0-EDA3-4B7D-97B9-DCB9B44D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5465EA-346F-4A1D-A5EF-EFC9ACCE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724CD5-5688-497C-B449-C9430C1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53D4BA-9B18-4811-93EB-5757502D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0100D3-2E75-4471-8FD7-C6CFF6A9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1551-1706-4DC6-BC4B-CF56D749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9781CA-C834-45F6-B957-E3EE324A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0A2898-2D4D-4C69-B665-A27EED12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C7D5E8-922A-49E9-AB99-E942BBAF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160B82-DE03-4794-BE01-46896605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28AAED-D426-4ABD-8E4C-1A34E1E1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93B89B-5405-4F21-A0C7-F909823E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A4AA15-975E-4F71-8C9D-43A5BD94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7E7B6A-6B88-498C-ADDB-0626CE2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4C1121-CDD8-46DC-92FD-449664AB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30732C-92B9-4C6B-A305-F92B1622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0D365-6C04-4180-A5D8-47D05295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B39F1D-B061-4242-B244-C705312BC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CE0B738-16A3-4203-BED9-620EE9AAF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2332F9-66A2-401D-85D3-D972D1F82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ECC11-E037-4DDF-B935-5A08A05E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334F-11CC-442A-B90D-02DB66D4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1189-698D-49C8-AC48-79D8B818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533E1-67C5-4E3C-A421-2342388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CEC5B-2C19-4BBF-A763-BB3F4871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8C6ED-147C-4433-A9AD-15A0A3B0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8E95-BB21-412A-BA4C-F0AFA66B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E5913-789B-4F55-96A8-71CE6886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5058D-9605-4543-8BA2-5339BCE9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CA916-658C-4CCA-A62C-A027187F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51B9-0CF0-4D58-B759-C66B9EBC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814D7-4A0E-4F19-9524-665F52959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D7DE0-47CD-4537-A6C3-BA7F43FD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2C20-4C26-4753-8192-92A53094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52F6B-0E03-46C7-8601-D0194D38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CF3D3-AC8A-4346-96BD-B85D24B8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EBE66-BE27-45DA-9DFD-A974CD6C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6291-A9CE-4253-8B77-3DB83E3A6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49132-EE1C-4B50-97AA-6CA5014F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51F3-F8DD-4328-AD56-781DAA7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F20A8-850F-48ED-BFED-B1EC1C97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E10EB-06A3-4899-874E-5AFC8243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8D83C-0A16-4688-A22D-9B024C2B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3E64F-83F1-47B8-8268-14446A17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EE3-672F-4DEF-9573-79B06E69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E9468-A37E-425F-8C9D-B93B9E32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7163-BD2B-45F8-96EA-81FB1961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68B58-73E2-47E8-B169-FA1BC970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B69AB-8BED-4A2B-BABC-6330A9BB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33BFF-4E40-487D-8DB0-C9A8222E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2C086-BF14-40F3-BE5A-385F3818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681C2-5C4A-44B7-BF61-75D6A94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291E1-7A69-4AC3-A92D-6D0C677C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8C743-7CF8-4938-AEFC-2654C3C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474A1-3671-446C-A572-5181CF39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A40-B18F-4610-85AB-49A519B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BD765-F7E0-43A9-9974-EBCBA446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FDC38-8702-420E-A708-BDF520B1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99755-5F89-4458-A29A-70A81CB2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D40CCF-46C3-4930-BB07-BD19A77D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3223-3E7B-4171-A2F8-6AB83BB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BCA57-B445-4A20-B512-982D20BE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C9023-7FA2-4BBC-8095-3D94376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98072-BC06-4536-9B0F-0826489E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82A7E-0C6B-494E-A6DD-81052A9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17627-4196-4A10-873D-F3DBABB7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BD99-D107-44C1-AAC3-945AFE9D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4D516-2985-4EDC-A8B3-6D754C36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385EF-AE6B-4809-9CC5-910B237D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05274-EA14-4C92-86AD-EF3CF32A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A6528-F618-42B8-95E3-9ECF538F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B1383-741C-46E3-AE89-9795EE63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E7EFF-B2ED-45B9-B2BF-E632AE65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887AE-AF18-48C5-929D-9A0D5D23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BFE47-C7B0-4D3D-AB71-D8455AAA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5C33F-0B94-42E7-B812-2D320030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A6484-68D3-433F-ABE1-FE5AAFD4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31E-3D17-45E2-85DF-7AD1E56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02E6-EE55-4FA3-A200-0C1FBB9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2DB4A-E214-47A2-B6BE-E2429B6B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80295-9F2A-49C9-94B5-DB025FDB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77F5B-CD7A-4635-AAFF-AF7A63DB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FF372-7A5D-4961-8453-0F74CBE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0C880-3B5F-4D7B-9757-7264A7B4D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F0384-C8F9-4BB3-A0D4-93AA8B70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BEF35-A547-4972-8384-16F38D09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4DFF8-237B-4911-B25A-3BB79291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20E63-21B9-4C8B-86CB-DC4CA090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F975-3A4A-4CC0-B6D7-BBD476724F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58FC-4C56-42BE-B498-A929B50E4A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3CCC-64B8-4BFA-9D53-126F45CEA6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7C9C-80B3-47F4-B7B5-8587276E6C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B09C-2455-482D-B41E-13F75EEF2A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4089-7874-471C-ACE3-02B3D30C08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FC4B-3621-4401-9292-8EEC6A9A08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45A9-3B41-4D72-B0E2-7E381F1F73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274B-C0DE-42BA-8951-D9252AB06A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6DFC-0C19-4A05-94D2-6E98E92A3E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7FBD-8A46-4875-84B9-9F9D69030E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1B21-4B40-495E-9C14-2B015DAD4D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4943-5425-46B7-9274-7F1888DFA6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36D-2C61-481A-A76E-F490F296F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726-B1FE-4058-80F8-E0071F9BB2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485F-2349-476C-8EDD-00DD0C34B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89FE-3871-4D35-94FA-1B25B76B9C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DBFB-17BB-4961-AF68-3378F15B1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7361-36E2-4387-830B-666BBCAA57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2CA-D6B5-4E1B-BB6E-F14190627F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2460-20CF-4AE2-AAA4-5C25A56509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95DC-3E78-4378-A63E-2C96B33378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5652-BAD3-4DA6-9E37-90E6F086A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04C9-FC61-41E0-B040-C147703B7F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3DBD-BDB1-409F-A307-EEAF9F1F57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33BA-7763-4A54-8560-CA505D8F10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BA3C-5445-4928-95B5-63D10EF6A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468-9A20-4348-9916-97B818A742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D8DA-5B52-4EC8-AE21-7C872E19DC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7669-E85C-450C-BDD9-340347730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78A2-D78C-4BB3-89A2-624B41D3E7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5FF0-D1FE-4841-BE02-D39683E4AE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DC80-5CC8-47FC-941A-D4BAD63F1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404B-FB0E-4261-9047-BDA8C35963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02C1-571C-41BE-B2FD-1853B9D8E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6E27A-AF6F-41AD-9AFD-F0025AB2DD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1104-A394-43EC-A1AA-D0F2972564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83B-BB88-4B2D-B5F2-7EEBA93FDE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906E-A929-4194-81B9-E47A43A8FC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12D-71EC-4AC0-95A6-F16A630E52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8027-A7D0-466D-A6E0-55F171443E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DCEF-561D-4A1E-8C6A-87DEADB4E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6255-659F-4889-8C0B-F9A37BCB21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B8E6-051B-4418-A58D-19566D0000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D196-3124-426F-988E-475FAA7943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7A59-7074-41BA-AB2E-32B3466DCE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4398-B1C9-4D9F-8F25-DB49560290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6F37-C7DF-4F93-BBF2-968AE67C3A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CAFE-1684-4FA7-82D7-43BFB5E4EA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E281-D91F-44AF-8D41-ABC79E5BDD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504800" y="2424240"/>
            <a:ext cx="613440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6737" descr=""/>
          <p:cNvPicPr/>
          <p:nvPr/>
        </p:nvPicPr>
        <p:blipFill>
          <a:blip r:embed="rId1"/>
          <a:stretch/>
        </p:blipFill>
        <p:spPr>
          <a:xfrm>
            <a:off x="725400" y="738360"/>
            <a:ext cx="7648560" cy="592920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6738"/>
          <p:cNvSpPr/>
          <p:nvPr/>
        </p:nvSpPr>
        <p:spPr>
          <a:xfrm>
            <a:off x="7621560" y="3319560"/>
            <a:ext cx="3222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5713" descr=""/>
          <p:cNvPicPr/>
          <p:nvPr/>
        </p:nvPicPr>
        <p:blipFill>
          <a:blip r:embed="rId1"/>
          <a:stretch/>
        </p:blipFill>
        <p:spPr>
          <a:xfrm>
            <a:off x="747720" y="1352520"/>
            <a:ext cx="7591320" cy="401976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5714"/>
          <p:cNvSpPr/>
          <p:nvPr/>
        </p:nvSpPr>
        <p:spPr>
          <a:xfrm>
            <a:off x="1668600" y="4981680"/>
            <a:ext cx="558000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4689" descr=""/>
          <p:cNvPicPr/>
          <p:nvPr/>
        </p:nvPicPr>
        <p:blipFill>
          <a:blip r:embed="rId1"/>
          <a:stretch/>
        </p:blipFill>
        <p:spPr>
          <a:xfrm>
            <a:off x="776160" y="1666800"/>
            <a:ext cx="7591680" cy="352440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4690"/>
          <p:cNvSpPr/>
          <p:nvPr/>
        </p:nvSpPr>
        <p:spPr>
          <a:xfrm>
            <a:off x="1306440" y="2695680"/>
            <a:ext cx="68659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4691"/>
          <p:cNvSpPr/>
          <p:nvPr/>
        </p:nvSpPr>
        <p:spPr>
          <a:xfrm>
            <a:off x="1201680" y="325764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4692"/>
          <p:cNvSpPr/>
          <p:nvPr/>
        </p:nvSpPr>
        <p:spPr>
          <a:xfrm>
            <a:off x="1173240" y="375300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4693"/>
          <p:cNvSpPr/>
          <p:nvPr/>
        </p:nvSpPr>
        <p:spPr>
          <a:xfrm>
            <a:off x="1116000" y="431496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4694"/>
          <p:cNvSpPr/>
          <p:nvPr/>
        </p:nvSpPr>
        <p:spPr>
          <a:xfrm>
            <a:off x="992160" y="4915080"/>
            <a:ext cx="7385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113665" descr=""/>
          <p:cNvPicPr/>
          <p:nvPr/>
        </p:nvPicPr>
        <p:blipFill>
          <a:blip r:embed="rId1"/>
          <a:stretch/>
        </p:blipFill>
        <p:spPr>
          <a:xfrm>
            <a:off x="561960" y="990720"/>
            <a:ext cx="8020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2641" descr=""/>
          <p:cNvPicPr/>
          <p:nvPr/>
        </p:nvPicPr>
        <p:blipFill>
          <a:blip r:embed="rId1"/>
          <a:stretch/>
        </p:blipFill>
        <p:spPr>
          <a:xfrm>
            <a:off x="557280" y="1990800"/>
            <a:ext cx="7991280" cy="89532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112642" descr=""/>
          <p:cNvPicPr/>
          <p:nvPr/>
        </p:nvPicPr>
        <p:blipFill>
          <a:blip r:embed="rId2"/>
          <a:stretch/>
        </p:blipFill>
        <p:spPr>
          <a:xfrm>
            <a:off x="514440" y="3019320"/>
            <a:ext cx="80200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11617" descr=""/>
          <p:cNvPicPr/>
          <p:nvPr/>
        </p:nvPicPr>
        <p:blipFill>
          <a:blip r:embed="rId1"/>
          <a:stretch/>
        </p:blipFill>
        <p:spPr>
          <a:xfrm>
            <a:off x="566640" y="785880"/>
            <a:ext cx="7991640" cy="570528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11618"/>
          <p:cNvSpPr/>
          <p:nvPr/>
        </p:nvSpPr>
        <p:spPr>
          <a:xfrm>
            <a:off x="1030320" y="1838160"/>
            <a:ext cx="786276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1619"/>
          <p:cNvSpPr/>
          <p:nvPr/>
        </p:nvSpPr>
        <p:spPr>
          <a:xfrm>
            <a:off x="1049400" y="2352600"/>
            <a:ext cx="7862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1620"/>
          <p:cNvSpPr/>
          <p:nvPr/>
        </p:nvSpPr>
        <p:spPr>
          <a:xfrm>
            <a:off x="1068480" y="2867040"/>
            <a:ext cx="7862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1621"/>
          <p:cNvSpPr/>
          <p:nvPr/>
        </p:nvSpPr>
        <p:spPr>
          <a:xfrm>
            <a:off x="925560" y="3390840"/>
            <a:ext cx="7862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1622"/>
          <p:cNvSpPr/>
          <p:nvPr/>
        </p:nvSpPr>
        <p:spPr>
          <a:xfrm>
            <a:off x="906480" y="3943440"/>
            <a:ext cx="7862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1623"/>
          <p:cNvSpPr/>
          <p:nvPr/>
        </p:nvSpPr>
        <p:spPr>
          <a:xfrm>
            <a:off x="849240" y="4467240"/>
            <a:ext cx="78631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1624"/>
          <p:cNvSpPr/>
          <p:nvPr/>
        </p:nvSpPr>
        <p:spPr>
          <a:xfrm>
            <a:off x="925560" y="5010120"/>
            <a:ext cx="7862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1625"/>
          <p:cNvSpPr/>
          <p:nvPr/>
        </p:nvSpPr>
        <p:spPr>
          <a:xfrm>
            <a:off x="763560" y="5553000"/>
            <a:ext cx="7862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1626"/>
          <p:cNvSpPr/>
          <p:nvPr/>
        </p:nvSpPr>
        <p:spPr>
          <a:xfrm>
            <a:off x="782640" y="6058080"/>
            <a:ext cx="7862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10593" descr=""/>
          <p:cNvPicPr/>
          <p:nvPr/>
        </p:nvPicPr>
        <p:blipFill>
          <a:blip r:embed="rId1"/>
          <a:stretch/>
        </p:blipFill>
        <p:spPr>
          <a:xfrm>
            <a:off x="552600" y="1438200"/>
            <a:ext cx="8057880" cy="413388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10594"/>
          <p:cNvSpPr/>
          <p:nvPr/>
        </p:nvSpPr>
        <p:spPr>
          <a:xfrm>
            <a:off x="1030320" y="3581280"/>
            <a:ext cx="77119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0595"/>
          <p:cNvSpPr/>
          <p:nvPr/>
        </p:nvSpPr>
        <p:spPr>
          <a:xfrm>
            <a:off x="1077840" y="4114800"/>
            <a:ext cx="77122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0596"/>
          <p:cNvSpPr/>
          <p:nvPr/>
        </p:nvSpPr>
        <p:spPr>
          <a:xfrm>
            <a:off x="1068480" y="4648320"/>
            <a:ext cx="77119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0597"/>
          <p:cNvSpPr/>
          <p:nvPr/>
        </p:nvSpPr>
        <p:spPr>
          <a:xfrm>
            <a:off x="925560" y="5162400"/>
            <a:ext cx="771192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09569" descr=""/>
          <p:cNvPicPr/>
          <p:nvPr/>
        </p:nvPicPr>
        <p:blipFill>
          <a:blip r:embed="rId1"/>
          <a:stretch/>
        </p:blipFill>
        <p:spPr>
          <a:xfrm>
            <a:off x="547560" y="1314360"/>
            <a:ext cx="8048880" cy="422928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09570"/>
          <p:cNvSpPr/>
          <p:nvPr/>
        </p:nvSpPr>
        <p:spPr>
          <a:xfrm>
            <a:off x="1077840" y="345744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9571"/>
          <p:cNvSpPr/>
          <p:nvPr/>
        </p:nvSpPr>
        <p:spPr>
          <a:xfrm>
            <a:off x="1096920" y="399096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矩形 109572"/>
          <p:cNvSpPr/>
          <p:nvPr/>
        </p:nvSpPr>
        <p:spPr>
          <a:xfrm>
            <a:off x="954000" y="4467240"/>
            <a:ext cx="77360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矩形 109573"/>
          <p:cNvSpPr/>
          <p:nvPr/>
        </p:nvSpPr>
        <p:spPr>
          <a:xfrm>
            <a:off x="839880" y="5010120"/>
            <a:ext cx="77356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90600" y="1366920"/>
            <a:ext cx="8362800" cy="412416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7236000" y="2492280"/>
            <a:ext cx="67932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5349960" y="2863800"/>
            <a:ext cx="7826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3444840" y="4378320"/>
            <a:ext cx="7826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5397480" y="4749840"/>
            <a:ext cx="7826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3511440" y="5130720"/>
            <a:ext cx="7826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3905" descr=""/>
          <p:cNvPicPr/>
          <p:nvPr/>
        </p:nvPicPr>
        <p:blipFill>
          <a:blip r:embed="rId1"/>
          <a:stretch/>
        </p:blipFill>
        <p:spPr>
          <a:xfrm>
            <a:off x="390600" y="2124000"/>
            <a:ext cx="8362800" cy="261000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3906"/>
          <p:cNvSpPr/>
          <p:nvPr/>
        </p:nvSpPr>
        <p:spPr>
          <a:xfrm>
            <a:off x="7483320" y="2463840"/>
            <a:ext cx="78264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7"/>
          <p:cNvSpPr/>
          <p:nvPr/>
        </p:nvSpPr>
        <p:spPr>
          <a:xfrm>
            <a:off x="4716360" y="2852640"/>
            <a:ext cx="78264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8"/>
          <p:cNvSpPr/>
          <p:nvPr/>
        </p:nvSpPr>
        <p:spPr>
          <a:xfrm>
            <a:off x="2197080" y="4359240"/>
            <a:ext cx="132876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2881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44080" cy="519120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2882"/>
          <p:cNvSpPr/>
          <p:nvPr/>
        </p:nvSpPr>
        <p:spPr>
          <a:xfrm>
            <a:off x="8269200" y="251928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390600" y="1952640"/>
            <a:ext cx="8362800" cy="29527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8202600" y="301464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图片 120833" descr=""/>
          <p:cNvPicPr/>
          <p:nvPr/>
        </p:nvPicPr>
        <p:blipFill>
          <a:blip r:embed="rId1"/>
          <a:stretch/>
        </p:blipFill>
        <p:spPr>
          <a:xfrm>
            <a:off x="395280" y="1047600"/>
            <a:ext cx="8353440" cy="4762800"/>
          </a:xfrm>
          <a:prstGeom prst="rect">
            <a:avLst/>
          </a:prstGeom>
          <a:ln w="0">
            <a:noFill/>
          </a:ln>
        </p:spPr>
      </p:pic>
      <p:sp>
        <p:nvSpPr>
          <p:cNvPr id="1448" name="矩形 120834"/>
          <p:cNvSpPr/>
          <p:nvPr/>
        </p:nvSpPr>
        <p:spPr>
          <a:xfrm>
            <a:off x="8269200" y="1986120"/>
            <a:ext cx="32220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0835"/>
          <p:cNvSpPr/>
          <p:nvPr/>
        </p:nvSpPr>
        <p:spPr>
          <a:xfrm>
            <a:off x="8221680" y="415764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9810" descr=""/>
          <p:cNvPicPr/>
          <p:nvPr/>
        </p:nvPicPr>
        <p:blipFill>
          <a:blip r:embed="rId1"/>
          <a:stretch/>
        </p:blipFill>
        <p:spPr>
          <a:xfrm>
            <a:off x="385920" y="1519200"/>
            <a:ext cx="8372160" cy="381960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9811"/>
          <p:cNvSpPr/>
          <p:nvPr/>
        </p:nvSpPr>
        <p:spPr>
          <a:xfrm>
            <a:off x="8193240" y="330984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8785" descr=""/>
          <p:cNvPicPr/>
          <p:nvPr/>
        </p:nvPicPr>
        <p:blipFill>
          <a:blip r:embed="rId1"/>
          <a:stretch/>
        </p:blipFill>
        <p:spPr>
          <a:xfrm>
            <a:off x="376200" y="922320"/>
            <a:ext cx="8381880" cy="552456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8786"/>
          <p:cNvSpPr/>
          <p:nvPr/>
        </p:nvSpPr>
        <p:spPr>
          <a:xfrm>
            <a:off x="8221680" y="137628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18787"/>
          <p:cNvSpPr/>
          <p:nvPr/>
        </p:nvSpPr>
        <p:spPr>
          <a:xfrm>
            <a:off x="5554800" y="353844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7761" descr=""/>
          <p:cNvPicPr/>
          <p:nvPr/>
        </p:nvPicPr>
        <p:blipFill>
          <a:blip r:embed="rId1"/>
          <a:stretch/>
        </p:blipFill>
        <p:spPr>
          <a:xfrm>
            <a:off x="380880" y="2162160"/>
            <a:ext cx="8382240" cy="253368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7762"/>
          <p:cNvSpPr/>
          <p:nvPr/>
        </p:nvSpPr>
        <p:spPr>
          <a:xfrm>
            <a:off x="8193240" y="2604960"/>
            <a:ext cx="322200" cy="30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1:27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